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96D3-2F58-4FFC-BBC5-58096A11A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issue: create a term for  every cell in matrix? or just for every column and row and link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tology design issue: create a term for  every cell in matrix? or just for every column and row and link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AD1-36E9-48A2-9DD6-98F3B8A8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119-A114-4950-AEBF-781DED2C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14E6-0777-4CAD-8502-0C6677F1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89A-A23A-4E0E-9511-802F025C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D6B7-E431-4F58-9870-0EEDD97F9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A8D-66CB-4F3A-AC8D-6CE268FC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C92-20C3-42D3-A333-795E4823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A59-47D1-4798-9AB5-A87B156D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3C3-5699-4FF7-B133-E0BDB35E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9F4-ECC7-40B4-B5B7-6B2D1D7C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A773-0F6F-41AA-815A-21A6BE02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EC73-B77F-481B-9517-C502694D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1266-1C5F-4F87-B4FD-1E098865C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oposed formal definition of a stag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part of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ifetime ev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an 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fetime event of a cell (e.g. cell cycl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ifetime event of an organism (e.g. developmental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development stage boundaries are typically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fia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ges are therefor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ccurren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bdivisions of lifetime event on time axi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4D ent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could t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vide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a stag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ast with anatomical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continuan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cells, organisms, organ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e could tak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ill Sans"/>
              </a:rPr>
              <a:t>photo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a continuan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inuants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participate 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stag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hips between stag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ubstages can b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superst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gmentation:14_somit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egmentation:14-19_somi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tage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preceded_by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ther stag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2nd instar larval stag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receded_b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1st instar larval sta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hip between continuants and stag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rganism (continuant) participates in its lifetime event (occurrent) throughout its entire existenc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s of the organism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tar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uring different stag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eural plate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starts_during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Segmentation:14-19_somi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note: not necessarily formation of a new entity - may be a single entity ‘e’ instantiating different types during different stages (transformation_of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ccounting for vari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can’t always pin down the stage at which an anatomical entity type is first (or last) instantiat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tural variation between organis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variation between subtype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lution: new rel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tarts_during_or_aft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ends_during_or befo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1523880"/>
          <a:ext cx="8534520" cy="3810240"/>
        </p:xfrm>
        <a:graphic>
          <a:graphicData uri="http://schemas.openxmlformats.org/drawingml/2006/table">
            <a:tbl>
              <a:tblPr/>
              <a:tblGrid>
                <a:gridCol w="1518120"/>
                <a:gridCol w="216000"/>
                <a:gridCol w="512640"/>
                <a:gridCol w="525240"/>
                <a:gridCol w="523800"/>
                <a:gridCol w="523440"/>
                <a:gridCol w="525240"/>
                <a:gridCol w="523800"/>
                <a:gridCol w="525240"/>
                <a:gridCol w="523800"/>
                <a:gridCol w="523440"/>
                <a:gridCol w="525240"/>
                <a:gridCol w="523800"/>
                <a:gridCol w="525240"/>
                <a:gridCol w="519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esumptive spinal 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pl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ke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ro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neural tu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pinal 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265760" y="45720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Blastula:Sp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208000" y="45720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42320" y="152280"/>
            <a:ext cx="19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astrula:90%-epibo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654360" y="60948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Gastrula:Bu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914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11080" y="0"/>
            <a:ext cx="13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eg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04360" y="15228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Pharyngula:Prim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4572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64520" y="838080"/>
            <a:ext cx="114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5-9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7000" y="45720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10-13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838080"/>
            <a:ext cx="134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14-19 som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762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066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055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58672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5410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6600" y="60199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arts_during_or_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0840" y="5562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nds_during_or_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ferring process relationship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20" y="22096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esumptive 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6400" y="27432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9720" y="3200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k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440" y="36576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1800" y="4191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1880" y="4876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1676160" y="441936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76160" y="3962520"/>
            <a:ext cx="464796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1599840" y="297144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600200" y="2514600"/>
            <a:ext cx="464832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133360" y="6553080"/>
            <a:ext cx="10666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07440" y="6248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as_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5622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029200" y="3429000"/>
            <a:ext cx="76320" cy="83808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257800" y="6019560"/>
            <a:ext cx="0" cy="533160"/>
          </a:xfrm>
          <a:prstGeom prst="line">
            <a:avLst/>
          </a:prstGeom>
          <a:ln w="572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91600" y="632448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receded_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523880"/>
          <a:ext cx="8381880" cy="2438640"/>
        </p:xfrm>
        <a:graphic>
          <a:graphicData uri="http://schemas.openxmlformats.org/drawingml/2006/table">
            <a:tbl>
              <a:tblPr/>
              <a:tblGrid>
                <a:gridCol w="1491120"/>
                <a:gridCol w="216000"/>
                <a:gridCol w="500040"/>
                <a:gridCol w="515880"/>
                <a:gridCol w="514080"/>
                <a:gridCol w="514080"/>
                <a:gridCol w="515520"/>
                <a:gridCol w="514440"/>
                <a:gridCol w="517320"/>
                <a:gridCol w="514080"/>
                <a:gridCol w="514080"/>
                <a:gridCol w="515520"/>
                <a:gridCol w="514440"/>
                <a:gridCol w="515520"/>
                <a:gridCol w="509760"/>
              </a:tblGrid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6e6e6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6e6e6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[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Gill Sans"/>
                        </a:rPr>
                        <a:t>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50920" y="58672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5410080"/>
            <a:ext cx="29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Gill Sans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6600" y="60199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starts_during_or_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0840" y="556272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ends_during_or_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09480" y="2743200"/>
            <a:ext cx="0" cy="4572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6240" y="48769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11760" y="4538520"/>
            <a:ext cx="200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3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4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67680" y="5943600"/>
            <a:ext cx="31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ur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3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71080" y="541008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9-09T00:40:27Z</dcterms:modified>
  <cp:revision>673</cp:revision>
  <dc:subject/>
  <dc:title>Ontologies for biological annotation</dc:title>
</cp:coreProperties>
</file>